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A4241D-1C8A-4257-B1FE-FBE320920CA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FE9E04-0EB9-438A-A17E-74B57DD09F5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8BBD90-07ED-4527-9999-38782BA9C8C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EA83F6-AA1D-4FA2-95F1-16D30C9882A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B83732-4660-406A-AF24-D096B037407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24667E-F848-4D3C-9346-FEA1A602CC6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BD3E2B-7C88-4746-80B1-3C63F7BB721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2885-F1FB-4300-91F4-D1CDE0D14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6342-2ABA-4F19-ABFF-17537AC0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8F947-4489-4355-9A3B-EA05D31D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516FC-2E19-4DB3-BFE6-020E8683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21A2E-5600-4AAD-98A7-B0624D7F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94C06-B204-4130-A5A3-628E760F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AF012-ED6F-4B27-914C-CEA76655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B9FC9-CE19-4242-888B-ABE1D20E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BCC35-2924-4E50-B652-1A1A7229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D9E54-C538-46B8-ACC7-ED67FAAF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086FC-89A8-4D96-9E7F-9E7722BE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390256-350B-4B16-AEFB-8085064AF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BFDA-2E52-4DF1-A670-DA79019C0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E1662E-627C-402B-ABCB-D91363E5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AD366-9A1F-4FED-A167-4C3E82AF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FE245-669F-47CD-A224-2D5D9104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DB3BC5-1CD9-4FF4-9AAE-772214B1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3164EC-6C32-48CF-9FED-B4B69B69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8E5494-95CF-44B8-92B6-E5325133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8DFCDD-12E0-479F-A1F1-EFD1B85A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3CAFAC-9D9F-4CC9-AC6B-94D7124D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07215-BC18-4E4C-95BA-A169733F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053510-577F-41EA-994C-44D541C5C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07C9-DBED-4BAE-8B02-F2F4257FB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03F7F8-D5B3-4062-A38F-DD49D4BC3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25FC-3E0B-4C16-A198-A29118F11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1B98-9006-4974-9B21-3BC764CE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F2A0-BCD7-4AFC-9FC8-BC99D7C2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1CC8-D2CA-4549-BC4C-CDAA6CC7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C597-80A8-4EAB-86A9-38BE6D9F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749C-F042-49F4-8329-8366BAA3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F6C8-EA29-4298-B905-D26495FB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FD2B-BD4C-46EF-AD80-4CD8AEA8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A9D2-CC93-408E-988B-ACE2C5B6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DA46-14A5-4349-A32C-48B3C7E7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909D-37BC-49B5-B5EA-6F2719D7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CFE0-C6C7-434E-B5A9-05C48F6DD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88A5-322F-4EC2-8FD6-363068445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CF0DC-D21A-4C77-8E04-472B7F481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86D66-8F6C-4281-8139-6D158E8C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0F881-23B8-495E-A048-A764431D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1B906-CDFA-439C-89FD-064E2AFD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3550E-649B-4A06-A28E-38FDDC18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0AFF-CACB-477C-A533-720811D7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B2252-E4CF-470D-95E9-8EB9D72D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E4FE6-BD79-46A6-A8EF-232D3507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C945C-237C-4D44-B6B4-C56B5915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4987F-92FE-4C2B-944D-A1E5860E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A78B8-6E0E-4F4C-9D36-31163644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1194E-631E-40FB-827B-320D04380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68386-22BF-4507-90CA-0332F0140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6435A-3CDB-4B01-8317-A10F4DD2C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B8E0E-A2FD-4919-8B51-D9222C7C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A8282-FD06-4DD3-BE91-7A84BC79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7F0E-2554-4F6E-9610-FA138338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03165-DF79-4C6A-94AD-F2EF3642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EEE1E-E55E-43C0-BAC5-3FD2F0AF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002D2-0A43-41EA-A504-30C14E06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0EE91-D538-4636-8E26-5DFDC07C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13A3E-4249-4459-BAAC-19662EB5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17D41-7354-41E5-88BF-01D5CB1C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EA8FD-10CD-4B1E-9F28-032A2E93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E4E9E-AD4E-4BE8-8B85-1386DC158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77160-EF99-450F-ADAF-4C1EE2EE4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8C257-2B5A-4C6C-9944-D774DEE4B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7FD3-DB5A-442E-AFBE-3682E3A5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58EBB-8DAE-4551-84F7-80931740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33F6D-869C-40B2-9F58-33F7F54B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00D3D-EBA1-40D5-ADFD-C06D1AE4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4D494-CCC5-4E17-AF0E-440641EC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DA0ED-585A-48DB-BB32-683EA70C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28BD7-B125-41BB-902C-7E114388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783F8-3269-4A4A-A8C5-6923BC1B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9B2D6-D286-4E57-877A-8C111CDD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5F66A-A71D-4BE1-AB0D-4CC1709C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C055C-E722-4609-9185-5911314FD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D2E8-40C1-4E32-A382-8E90B6F1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6C1A2-62AD-49CB-AE11-96E3217A6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08394-EDA5-411B-A8CB-759582324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86475-6836-494F-A853-543636BE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10C6D-55B8-431F-80B1-2B959550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DB8EE-1517-4E0B-9C44-D6B7CCEB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7B4AD-6776-4113-A609-A3840166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99BFB-0880-4498-89C3-6C39AB40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BF79A-5166-4238-B845-AA26630D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59DDE-EF2A-4B02-B313-347A5586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E5619-0345-436F-8AA2-4FFD7C96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143D-109D-4A2C-B686-BE55C592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36E45-E120-4613-976D-36BA7C3F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AB663-86CB-492D-954D-3FA78BC68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99147-2419-4455-9B72-E1A200280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2A46D-9B34-44E8-81BB-2324E982E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50541-4753-4A55-9DD9-E5D2AF34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1138F-9F8D-41B8-AE0B-818A680A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0168A-22F8-44A2-AD6D-481CD89D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D0D65-D6C5-4FD5-BA1B-D7A74476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B7D8F-A704-475B-940A-ABCF5E47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1E43C-3442-4D0F-B25D-6648F193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57A7-00B3-4CE0-96F9-BA10465A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F4EAC-85F7-460B-A9E5-34948C39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3810C-532E-46F5-AFD9-0013C237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7A06D-95AD-4F3D-B671-D0A36E1B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C1B14-7857-4C3D-9B45-DC752E6C3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64FBD-FE94-4FF9-8EBB-A48A146D8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77D4E-1D5C-4E35-8BA2-EA28C6842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149D2-8DEB-4F91-9C25-9E0B2589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DDB2A-FF2F-4E34-9ACC-C27153B2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C59AF-AD85-49BC-8CC9-25642BCB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4F3A4-5EA4-4A57-B481-DD1726F8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A988-4690-40DD-A7B0-C987F9A3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BB34E-B2EF-400C-91B9-6C870F82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39D0B-481D-449B-91BE-88AACEED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04145-8467-47AA-A0B8-DE608CF2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AB8AF-7E83-4228-9AEA-E67866B1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3C5F2-462E-4E42-8EFC-A0868764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17440-1E28-455B-BFDC-D7379CA29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0B4A7-9BC9-4DDE-B02F-BEFF20BA5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AD8E6-7608-4BB1-9CAF-8AD88788A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C4D3D-81C4-4A1E-8AA3-46FA3DC7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93095-8494-4311-AB4F-9D699277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5705A5-9BFE-4BFD-98A2-73E009CCF1A5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6629400" y="600120"/>
            <a:ext cx="2057400" cy="58165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744960" y="5955840"/>
            <a:ext cx="947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580680" y="5951520"/>
            <a:ext cx="5923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D9B9AA-351B-49F8-9C75-6130BA9CF453}" type="slidenum"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447840" y="3086280"/>
            <a:ext cx="8240400" cy="330516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EC96EB-1ECA-40D0-BDEF-4BEE3F2C459A}" type="slidenum"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B841A9-A6C6-48D8-88A1-12F407F06D50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452520" y="514188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955867-89FD-4A5E-9268-EFD8D78A92C9}" type="slidenum"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C9F89F-BC5E-4AD9-A360-49E2560BB51A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FF1E22-C1B9-4E02-9F3A-898D5781F204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005362-0833-403D-A38B-6682E8793084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452520" y="5141880"/>
            <a:ext cx="8238960" cy="127476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89C0AE-6FD1-4EEC-A7DF-FC43E48EE8FD}" type="slidenum"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AC346E-6EEE-4390-ADA5-1F681C063EFD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81040" y="990720"/>
            <a:ext cx="7989840" cy="15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3600" spc="-1" strike="noStrike">
                <a:solidFill>
                  <a:srgbClr val="366658"/>
                </a:solidFill>
                <a:latin typeface="Arial"/>
              </a:rPr>
              <a:t>TWORZENIE PREZENTACJI MULTIMEDIALNEJ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55280" y="3860280"/>
            <a:ext cx="7815240" cy="15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ill Sans MT"/>
              </a:rPr>
              <a:t>W SZEŚCIU KROKACH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Diagram 3" descr=""/>
          <p:cNvPicPr/>
          <p:nvPr/>
        </p:nvPicPr>
        <p:blipFill>
          <a:blip r:embed="rId1"/>
          <a:stretch/>
        </p:blipFill>
        <p:spPr>
          <a:xfrm>
            <a:off x="262080" y="1530360"/>
            <a:ext cx="8626320" cy="5718240"/>
          </a:xfrm>
          <a:prstGeom prst="rect">
            <a:avLst/>
          </a:prstGeom>
          <a:ln w="0">
            <a:noFill/>
          </a:ln>
        </p:spPr>
      </p:pic>
      <p:grpSp>
        <p:nvGrpSpPr>
          <p:cNvPr id="459" name="Grupa 2"/>
          <p:cNvGrpSpPr/>
          <p:nvPr/>
        </p:nvGrpSpPr>
        <p:grpSpPr>
          <a:xfrm>
            <a:off x="1424160" y="1336680"/>
            <a:ext cx="1276200" cy="1276200"/>
            <a:chOff x="1424160" y="1336680"/>
            <a:chExt cx="1276200" cy="1276200"/>
          </a:xfrm>
        </p:grpSpPr>
        <p:sp>
          <p:nvSpPr>
            <p:cNvPr id="460" name="Owal 20"/>
            <p:cNvSpPr/>
            <p:nvPr/>
          </p:nvSpPr>
          <p:spPr>
            <a:xfrm>
              <a:off x="1424160" y="1336680"/>
              <a:ext cx="1276200" cy="127620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61" name="Grafika 17" descr="Lista kontrolna"/>
            <p:cNvPicPr/>
            <p:nvPr/>
          </p:nvPicPr>
          <p:blipFill>
            <a:blip r:embed="rId2"/>
            <a:stretch/>
          </p:blipFill>
          <p:spPr>
            <a:xfrm>
              <a:off x="1604880" y="1517400"/>
              <a:ext cx="900000" cy="9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2" name="Grupa 4"/>
          <p:cNvGrpSpPr/>
          <p:nvPr/>
        </p:nvGrpSpPr>
        <p:grpSpPr>
          <a:xfrm>
            <a:off x="7684920" y="1263600"/>
            <a:ext cx="1274760" cy="1276560"/>
            <a:chOff x="7684920" y="1263600"/>
            <a:chExt cx="1274760" cy="1276560"/>
          </a:xfrm>
        </p:grpSpPr>
        <p:sp>
          <p:nvSpPr>
            <p:cNvPr id="463" name="Owal 21"/>
            <p:cNvSpPr/>
            <p:nvPr/>
          </p:nvSpPr>
          <p:spPr>
            <a:xfrm>
              <a:off x="7684920" y="1263600"/>
              <a:ext cx="1274760" cy="127656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64" name="Grafika 15" descr="Głośność"/>
            <p:cNvPicPr/>
            <p:nvPr/>
          </p:nvPicPr>
          <p:blipFill>
            <a:blip r:embed="rId3"/>
            <a:stretch/>
          </p:blipFill>
          <p:spPr>
            <a:xfrm>
              <a:off x="7924680" y="1450800"/>
              <a:ext cx="898560" cy="90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5" name="Grupa 1"/>
          <p:cNvGrpSpPr/>
          <p:nvPr/>
        </p:nvGrpSpPr>
        <p:grpSpPr>
          <a:xfrm>
            <a:off x="4616280" y="1263600"/>
            <a:ext cx="1276560" cy="1276560"/>
            <a:chOff x="4616280" y="1263600"/>
            <a:chExt cx="1276560" cy="1276560"/>
          </a:xfrm>
        </p:grpSpPr>
        <p:sp>
          <p:nvSpPr>
            <p:cNvPr id="466" name="Owal 23"/>
            <p:cNvSpPr/>
            <p:nvPr/>
          </p:nvSpPr>
          <p:spPr>
            <a:xfrm>
              <a:off x="4616280" y="1263600"/>
              <a:ext cx="1276560" cy="127656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67" name="Grafika 19" descr="Ekran projekcyjny"/>
            <p:cNvPicPr/>
            <p:nvPr/>
          </p:nvPicPr>
          <p:blipFill>
            <a:blip r:embed="rId4"/>
            <a:stretch/>
          </p:blipFill>
          <p:spPr>
            <a:xfrm>
              <a:off x="4806720" y="1446120"/>
              <a:ext cx="900360" cy="90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8" name="Grupa 27"/>
          <p:cNvGrpSpPr/>
          <p:nvPr/>
        </p:nvGrpSpPr>
        <p:grpSpPr>
          <a:xfrm>
            <a:off x="7701120" y="3860640"/>
            <a:ext cx="1274760" cy="1276560"/>
            <a:chOff x="7701120" y="3860640"/>
            <a:chExt cx="1274760" cy="1276560"/>
          </a:xfrm>
        </p:grpSpPr>
        <p:sp>
          <p:nvSpPr>
            <p:cNvPr id="469" name="Owal 28"/>
            <p:cNvSpPr/>
            <p:nvPr/>
          </p:nvSpPr>
          <p:spPr>
            <a:xfrm>
              <a:off x="7701120" y="3860640"/>
              <a:ext cx="1274760" cy="127656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70" name="Grafika 29" descr="Dyskietka"/>
            <p:cNvPicPr/>
            <p:nvPr/>
          </p:nvPicPr>
          <p:blipFill>
            <a:blip r:embed="rId5"/>
            <a:stretch/>
          </p:blipFill>
          <p:spPr>
            <a:xfrm>
              <a:off x="7888320" y="4047840"/>
              <a:ext cx="900360" cy="90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1" name="Grupa 30"/>
          <p:cNvGrpSpPr/>
          <p:nvPr/>
        </p:nvGrpSpPr>
        <p:grpSpPr>
          <a:xfrm>
            <a:off x="4610160" y="3860640"/>
            <a:ext cx="1276200" cy="1276560"/>
            <a:chOff x="4610160" y="3860640"/>
            <a:chExt cx="1276200" cy="1276560"/>
          </a:xfrm>
        </p:grpSpPr>
        <p:sp>
          <p:nvSpPr>
            <p:cNvPr id="472" name="Owal 31"/>
            <p:cNvSpPr/>
            <p:nvPr/>
          </p:nvSpPr>
          <p:spPr>
            <a:xfrm>
              <a:off x="4610160" y="3860640"/>
              <a:ext cx="1276200" cy="127656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73" name="Grafika 32" descr="Drukarka"/>
            <p:cNvPicPr/>
            <p:nvPr/>
          </p:nvPicPr>
          <p:blipFill>
            <a:blip r:embed="rId6"/>
            <a:stretch/>
          </p:blipFill>
          <p:spPr>
            <a:xfrm>
              <a:off x="4802040" y="4039920"/>
              <a:ext cx="901800" cy="9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4" name="Grupa 33"/>
          <p:cNvGrpSpPr/>
          <p:nvPr/>
        </p:nvGrpSpPr>
        <p:grpSpPr>
          <a:xfrm>
            <a:off x="1494000" y="3860640"/>
            <a:ext cx="1276200" cy="1276560"/>
            <a:chOff x="1494000" y="3860640"/>
            <a:chExt cx="1276200" cy="1276560"/>
          </a:xfrm>
        </p:grpSpPr>
        <p:sp>
          <p:nvSpPr>
            <p:cNvPr id="475" name="Owal 34"/>
            <p:cNvSpPr/>
            <p:nvPr/>
          </p:nvSpPr>
          <p:spPr>
            <a:xfrm>
              <a:off x="1494000" y="3860640"/>
              <a:ext cx="1276200" cy="127656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76" name="Grafika 35" descr="Nauczyciel"/>
            <p:cNvPicPr/>
            <p:nvPr/>
          </p:nvPicPr>
          <p:blipFill>
            <a:blip r:embed="rId7"/>
            <a:stretch/>
          </p:blipFill>
          <p:spPr>
            <a:xfrm>
              <a:off x="1681200" y="4092480"/>
              <a:ext cx="901800" cy="90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ETAPY PRZYGOTOWYWANIA PREZENTACJI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8" name="pole tekstowe 5"/>
          <p:cNvSpPr/>
          <p:nvPr/>
        </p:nvSpPr>
        <p:spPr>
          <a:xfrm>
            <a:off x="3865680" y="6332400"/>
            <a:ext cx="15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(opcjonalnie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1. PLANOWANIE PREZENTACJI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480" name="Prostokąt 29"/>
          <p:cNvGrpSpPr/>
          <p:nvPr/>
        </p:nvGrpSpPr>
        <p:grpSpPr>
          <a:xfrm>
            <a:off x="781200" y="2438280"/>
            <a:ext cx="1309680" cy="884520"/>
            <a:chOff x="781200" y="2438280"/>
            <a:chExt cx="1309680" cy="884520"/>
          </a:xfrm>
        </p:grpSpPr>
        <p:pic>
          <p:nvPicPr>
            <p:cNvPr id="481" name="Prostokąt 29" descr=""/>
            <p:cNvPicPr/>
            <p:nvPr/>
          </p:nvPicPr>
          <p:blipFill>
            <a:blip r:embed="rId1"/>
            <a:stretch/>
          </p:blipFill>
          <p:spPr>
            <a:xfrm>
              <a:off x="781200" y="2438280"/>
              <a:ext cx="1309680" cy="8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861840" y="2516040"/>
              <a:ext cx="115272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pl-PL" sz="1800" spc="-1" strike="noStrike">
                  <a:solidFill>
                    <a:srgbClr val="366658"/>
                  </a:solidFill>
                  <a:latin typeface="Arial"/>
                  <a:ea typeface="Arial"/>
                </a:rPr>
                <a:t>1.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483" name="Prostokąt 30"/>
          <p:cNvGrpSpPr/>
          <p:nvPr/>
        </p:nvGrpSpPr>
        <p:grpSpPr>
          <a:xfrm>
            <a:off x="781200" y="3376440"/>
            <a:ext cx="1309680" cy="884520"/>
            <a:chOff x="781200" y="3376440"/>
            <a:chExt cx="1309680" cy="884520"/>
          </a:xfrm>
        </p:grpSpPr>
        <p:pic>
          <p:nvPicPr>
            <p:cNvPr id="484" name="Prostokąt 30" descr=""/>
            <p:cNvPicPr/>
            <p:nvPr/>
          </p:nvPicPr>
          <p:blipFill>
            <a:blip r:embed="rId2"/>
            <a:stretch/>
          </p:blipFill>
          <p:spPr>
            <a:xfrm>
              <a:off x="781200" y="3376440"/>
              <a:ext cx="1309680" cy="8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861840" y="3457440"/>
              <a:ext cx="115272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pl-PL" sz="1800" spc="-1" strike="noStrike">
                  <a:solidFill>
                    <a:srgbClr val="366658"/>
                  </a:solidFill>
                  <a:latin typeface="Arial"/>
                  <a:ea typeface="Arial"/>
                </a:rPr>
                <a:t>2. 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486" name="Grupa 31"/>
          <p:cNvGrpSpPr/>
          <p:nvPr/>
        </p:nvGrpSpPr>
        <p:grpSpPr>
          <a:xfrm>
            <a:off x="692280" y="4348080"/>
            <a:ext cx="1549440" cy="987480"/>
            <a:chOff x="692280" y="4348080"/>
            <a:chExt cx="1549440" cy="987480"/>
          </a:xfrm>
        </p:grpSpPr>
        <p:grpSp>
          <p:nvGrpSpPr>
            <p:cNvPr id="487" name="Prostokąt 32"/>
            <p:cNvGrpSpPr/>
            <p:nvPr/>
          </p:nvGrpSpPr>
          <p:grpSpPr>
            <a:xfrm>
              <a:off x="692280" y="4348080"/>
              <a:ext cx="1189800" cy="761760"/>
              <a:chOff x="692280" y="4348080"/>
              <a:chExt cx="1189800" cy="761760"/>
            </a:xfrm>
          </p:grpSpPr>
          <p:pic>
            <p:nvPicPr>
              <p:cNvPr id="488" name="Prostokąt 32" descr=""/>
              <p:cNvPicPr/>
              <p:nvPr/>
            </p:nvPicPr>
            <p:blipFill>
              <a:blip r:embed="rId3"/>
              <a:stretch/>
            </p:blipFill>
            <p:spPr>
              <a:xfrm>
                <a:off x="692280" y="4348080"/>
                <a:ext cx="118980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9" name=""/>
              <p:cNvSpPr/>
              <p:nvPr/>
            </p:nvSpPr>
            <p:spPr>
              <a:xfrm>
                <a:off x="761400" y="4417560"/>
                <a:ext cx="104652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490" name="Prostokąt 33"/>
            <p:cNvGrpSpPr/>
            <p:nvPr/>
          </p:nvGrpSpPr>
          <p:grpSpPr>
            <a:xfrm>
              <a:off x="858240" y="4442400"/>
              <a:ext cx="1189800" cy="761760"/>
              <a:chOff x="858240" y="4442400"/>
              <a:chExt cx="1189800" cy="761760"/>
            </a:xfrm>
          </p:grpSpPr>
          <p:pic>
            <p:nvPicPr>
              <p:cNvPr id="491" name="Prostokąt 33" descr=""/>
              <p:cNvPicPr/>
              <p:nvPr/>
            </p:nvPicPr>
            <p:blipFill>
              <a:blip r:embed="rId4"/>
              <a:stretch/>
            </p:blipFill>
            <p:spPr>
              <a:xfrm>
                <a:off x="858240" y="4442400"/>
                <a:ext cx="118980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2" name=""/>
              <p:cNvSpPr/>
              <p:nvPr/>
            </p:nvSpPr>
            <p:spPr>
              <a:xfrm>
                <a:off x="929880" y="4509720"/>
                <a:ext cx="104652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493" name="Prostokąt 34"/>
            <p:cNvGrpSpPr/>
            <p:nvPr/>
          </p:nvGrpSpPr>
          <p:grpSpPr>
            <a:xfrm>
              <a:off x="1051920" y="4573800"/>
              <a:ext cx="1189800" cy="761760"/>
              <a:chOff x="1051920" y="4573800"/>
              <a:chExt cx="1189800" cy="761760"/>
            </a:xfrm>
          </p:grpSpPr>
          <p:pic>
            <p:nvPicPr>
              <p:cNvPr id="494" name="Prostokąt 34" descr=""/>
              <p:cNvPicPr/>
              <p:nvPr/>
            </p:nvPicPr>
            <p:blipFill>
              <a:blip r:embed="rId5"/>
              <a:stretch/>
            </p:blipFill>
            <p:spPr>
              <a:xfrm>
                <a:off x="1051920" y="4573800"/>
                <a:ext cx="118980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5" name=""/>
              <p:cNvSpPr/>
              <p:nvPr/>
            </p:nvSpPr>
            <p:spPr>
              <a:xfrm>
                <a:off x="1121760" y="4642560"/>
                <a:ext cx="104652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pl-PL" sz="1800" spc="-1" strike="noStrike">
                    <a:solidFill>
                      <a:srgbClr val="366658"/>
                    </a:solidFill>
                    <a:latin typeface="Arial"/>
                    <a:ea typeface="Arial"/>
                  </a:rPr>
                  <a:t>3. do n-1</a:t>
                </a: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grpSp>
        <p:nvGrpSpPr>
          <p:cNvPr id="496" name="Prostokąt 37"/>
          <p:cNvGrpSpPr/>
          <p:nvPr/>
        </p:nvGrpSpPr>
        <p:grpSpPr>
          <a:xfrm>
            <a:off x="781200" y="5456160"/>
            <a:ext cx="1309680" cy="884160"/>
            <a:chOff x="781200" y="5456160"/>
            <a:chExt cx="1309680" cy="884160"/>
          </a:xfrm>
        </p:grpSpPr>
        <p:pic>
          <p:nvPicPr>
            <p:cNvPr id="497" name="Prostokąt 37" descr=""/>
            <p:cNvPicPr/>
            <p:nvPr/>
          </p:nvPicPr>
          <p:blipFill>
            <a:blip r:embed="rId6"/>
            <a:stretch/>
          </p:blipFill>
          <p:spPr>
            <a:xfrm>
              <a:off x="781200" y="5456160"/>
              <a:ext cx="130968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861840" y="5535720"/>
              <a:ext cx="11527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pl-PL" sz="1800" spc="-1" strike="noStrike">
                  <a:solidFill>
                    <a:srgbClr val="366658"/>
                  </a:solidFill>
                  <a:latin typeface="Arial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99" name="pole tekstowe 20"/>
          <p:cNvSpPr/>
          <p:nvPr/>
        </p:nvSpPr>
        <p:spPr>
          <a:xfrm>
            <a:off x="2705040" y="2570040"/>
            <a:ext cx="548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Tytuł i ewentualnie podtytuł oraz autor prezentacji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ole tekstowe 20"/>
          <p:cNvSpPr/>
          <p:nvPr/>
        </p:nvSpPr>
        <p:spPr>
          <a:xfrm>
            <a:off x="2641680" y="3495600"/>
            <a:ext cx="54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stęp, spis treści prezentacji (np. w formie nawigacji po głównych punktach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ole tekstowe 20"/>
          <p:cNvSpPr/>
          <p:nvPr/>
        </p:nvSpPr>
        <p:spPr>
          <a:xfrm>
            <a:off x="2682720" y="4618080"/>
            <a:ext cx="50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łaściwa treść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ole tekstowe 20"/>
          <p:cNvSpPr/>
          <p:nvPr/>
        </p:nvSpPr>
        <p:spPr>
          <a:xfrm>
            <a:off x="2617920" y="5457960"/>
            <a:ext cx="54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odsumowanie, dane o autorze, dane kontaktowe, podziękowania itp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3" name="Grafika 57" descr="Grupa"/>
          <p:cNvPicPr/>
          <p:nvPr/>
        </p:nvPicPr>
        <p:blipFill>
          <a:blip r:embed="rId7"/>
          <a:stretch/>
        </p:blipFill>
        <p:spPr>
          <a:xfrm>
            <a:off x="5388120" y="1254240"/>
            <a:ext cx="965160" cy="965160"/>
          </a:xfrm>
          <a:prstGeom prst="rect">
            <a:avLst/>
          </a:prstGeom>
          <a:ln w="0">
            <a:noFill/>
          </a:ln>
        </p:spPr>
      </p:pic>
      <p:pic>
        <p:nvPicPr>
          <p:cNvPr id="504" name="Grafika 58" descr="Dokument"/>
          <p:cNvPicPr/>
          <p:nvPr/>
        </p:nvPicPr>
        <p:blipFill>
          <a:blip r:embed="rId8"/>
          <a:stretch/>
        </p:blipFill>
        <p:spPr>
          <a:xfrm>
            <a:off x="6357960" y="1476360"/>
            <a:ext cx="704880" cy="703440"/>
          </a:xfrm>
          <a:prstGeom prst="rect">
            <a:avLst/>
          </a:prstGeom>
          <a:ln w="0">
            <a:noFill/>
          </a:ln>
        </p:spPr>
      </p:pic>
      <p:sp>
        <p:nvSpPr>
          <p:cNvPr id="505" name="Strzałka: pięciokąt 59"/>
          <p:cNvSpPr/>
          <p:nvPr/>
        </p:nvSpPr>
        <p:spPr>
          <a:xfrm>
            <a:off x="592200" y="1476360"/>
            <a:ext cx="4124160" cy="647640"/>
          </a:xfrm>
          <a:custGeom>
            <a:avLst/>
            <a:gdLst>
              <a:gd name="textAreaLeft" fmla="*/ 0 w 4124160"/>
              <a:gd name="textAreaRight" fmla="*/ 4124520 w 412416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04" y="0"/>
                </a:lnTo>
                <a:lnTo>
                  <a:pt x="21600" y="10800"/>
                </a:lnTo>
                <a:lnTo>
                  <a:pt x="1990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ostosuj prezentację do odbiorców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i zaplanuj zawartość merytoryczną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Strzałka: pagon 60"/>
          <p:cNvSpPr/>
          <p:nvPr/>
        </p:nvSpPr>
        <p:spPr>
          <a:xfrm>
            <a:off x="4545000" y="1476360"/>
            <a:ext cx="646200" cy="631800"/>
          </a:xfrm>
          <a:custGeom>
            <a:avLst/>
            <a:gdLst>
              <a:gd name="textAreaLeft" fmla="*/ 0 w 646200"/>
              <a:gd name="textAreaRight" fmla="*/ 646560 w 64620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39" y="0"/>
                </a:lnTo>
                <a:lnTo>
                  <a:pt x="21600" y="10800"/>
                </a:lnTo>
                <a:lnTo>
                  <a:pt x="11039" y="21600"/>
                </a:lnTo>
                <a:lnTo>
                  <a:pt x="0" y="21600"/>
                </a:lnTo>
                <a:lnTo>
                  <a:pt x="10561" y="10800"/>
                </a:lnTo>
                <a:close/>
              </a:path>
            </a:pathLst>
          </a:cu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Owal 61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8" name="Grafika 62" descr="Lista kontrolna"/>
          <p:cNvPicPr/>
          <p:nvPr/>
        </p:nvPicPr>
        <p:blipFill>
          <a:blip r:embed="rId9"/>
          <a:stretch/>
        </p:blipFill>
        <p:spPr>
          <a:xfrm>
            <a:off x="8185320" y="376200"/>
            <a:ext cx="5745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2. TWORZENIE PREZENTACJI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0" name="Owal 35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1" name="Grafika 36" descr="Ekran projekcyjny"/>
          <p:cNvPicPr/>
          <p:nvPr/>
        </p:nvPicPr>
        <p:blipFill>
          <a:blip r:embed="rId1"/>
          <a:stretch/>
        </p:blipFill>
        <p:spPr>
          <a:xfrm>
            <a:off x="8193240" y="390600"/>
            <a:ext cx="574560" cy="576360"/>
          </a:xfrm>
          <a:prstGeom prst="rect">
            <a:avLst/>
          </a:prstGeom>
          <a:ln w="0">
            <a:noFill/>
          </a:ln>
        </p:spPr>
      </p:pic>
      <p:pic>
        <p:nvPicPr>
          <p:cNvPr id="512" name="Diagram 4" descr=""/>
          <p:cNvPicPr/>
          <p:nvPr/>
        </p:nvPicPr>
        <p:blipFill>
          <a:blip r:embed="rId2"/>
          <a:stretch/>
        </p:blipFill>
        <p:spPr>
          <a:xfrm>
            <a:off x="615960" y="1785960"/>
            <a:ext cx="3541680" cy="4200480"/>
          </a:xfrm>
          <a:prstGeom prst="rect">
            <a:avLst/>
          </a:prstGeom>
          <a:ln w="0">
            <a:noFill/>
          </a:ln>
        </p:spPr>
      </p:pic>
      <p:sp>
        <p:nvSpPr>
          <p:cNvPr id="513" name="Prostokąt 14"/>
          <p:cNvSpPr/>
          <p:nvPr/>
        </p:nvSpPr>
        <p:spPr>
          <a:xfrm>
            <a:off x="5364000" y="1832040"/>
            <a:ext cx="352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Plik/Nowy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lub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Projektowanie/Motyw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14" name="Grupa 19"/>
          <p:cNvGrpSpPr/>
          <p:nvPr/>
        </p:nvGrpSpPr>
        <p:grpSpPr>
          <a:xfrm>
            <a:off x="3913200" y="2844720"/>
            <a:ext cx="1257120" cy="925560"/>
            <a:chOff x="3913200" y="2844720"/>
            <a:chExt cx="1257120" cy="925560"/>
          </a:xfrm>
        </p:grpSpPr>
        <p:sp>
          <p:nvSpPr>
            <p:cNvPr id="515" name="Prostokąt: zaokrąglone rogi 17"/>
            <p:cNvSpPr/>
            <p:nvPr/>
          </p:nvSpPr>
          <p:spPr>
            <a:xfrm>
              <a:off x="3913200" y="2844720"/>
              <a:ext cx="1257120" cy="92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516" name="Grupa 12"/>
            <p:cNvGrpSpPr/>
            <p:nvPr/>
          </p:nvGrpSpPr>
          <p:grpSpPr>
            <a:xfrm>
              <a:off x="3954600" y="2879280"/>
              <a:ext cx="1100160" cy="869400"/>
              <a:chOff x="3954600" y="2879280"/>
              <a:chExt cx="1100160" cy="869400"/>
            </a:xfrm>
          </p:grpSpPr>
          <p:pic>
            <p:nvPicPr>
              <p:cNvPr id="517" name="Grafika 38" descr="Dokument"/>
              <p:cNvPicPr/>
              <p:nvPr/>
            </p:nvPicPr>
            <p:blipFill>
              <a:blip r:embed="rId3"/>
              <a:stretch/>
            </p:blipFill>
            <p:spPr>
              <a:xfrm rot="21288600">
                <a:off x="3980160" y="2988720"/>
                <a:ext cx="593640" cy="59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8" name="Grupa 39"/>
              <p:cNvGrpSpPr/>
              <p:nvPr/>
            </p:nvGrpSpPr>
            <p:grpSpPr>
              <a:xfrm>
                <a:off x="4451040" y="2879280"/>
                <a:ext cx="603720" cy="869400"/>
                <a:chOff x="4451040" y="2879280"/>
                <a:chExt cx="603720" cy="869400"/>
              </a:xfrm>
            </p:grpSpPr>
            <p:pic>
              <p:nvPicPr>
                <p:cNvPr id="519" name="Grafika 40" descr="Paleta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492080" y="3145680"/>
                  <a:ext cx="562680" cy="603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0" name="Grafika 41" descr="Mały pędze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451040" y="2879280"/>
                  <a:ext cx="562680" cy="603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521" name="Grupa 23"/>
          <p:cNvGrpSpPr/>
          <p:nvPr/>
        </p:nvGrpSpPr>
        <p:grpSpPr>
          <a:xfrm>
            <a:off x="3886200" y="1700280"/>
            <a:ext cx="1258920" cy="925560"/>
            <a:chOff x="3886200" y="1700280"/>
            <a:chExt cx="1258920" cy="925560"/>
          </a:xfrm>
        </p:grpSpPr>
        <p:sp>
          <p:nvSpPr>
            <p:cNvPr id="522" name="Prostokąt: zaokrąglone rogi 45"/>
            <p:cNvSpPr/>
            <p:nvPr/>
          </p:nvSpPr>
          <p:spPr>
            <a:xfrm>
              <a:off x="3886200" y="1700280"/>
              <a:ext cx="1258920" cy="92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523" name="Grafika 18" descr="Rolka filmu"/>
            <p:cNvPicPr/>
            <p:nvPr/>
          </p:nvPicPr>
          <p:blipFill>
            <a:blip r:embed="rId6"/>
            <a:stretch/>
          </p:blipFill>
          <p:spPr>
            <a:xfrm>
              <a:off x="4170240" y="1839960"/>
              <a:ext cx="615960" cy="61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4" name="Grupa 21"/>
          <p:cNvGrpSpPr/>
          <p:nvPr/>
        </p:nvGrpSpPr>
        <p:grpSpPr>
          <a:xfrm>
            <a:off x="3886200" y="3979800"/>
            <a:ext cx="1258920" cy="925560"/>
            <a:chOff x="3886200" y="3979800"/>
            <a:chExt cx="1258920" cy="925560"/>
          </a:xfrm>
        </p:grpSpPr>
        <p:sp>
          <p:nvSpPr>
            <p:cNvPr id="525" name="Prostokąt: zaokrąglone rogi 46"/>
            <p:cNvSpPr/>
            <p:nvPr/>
          </p:nvSpPr>
          <p:spPr>
            <a:xfrm>
              <a:off x="3886200" y="3979800"/>
              <a:ext cx="1258920" cy="92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526" name="Grupa 42"/>
            <p:cNvGrpSpPr/>
            <p:nvPr/>
          </p:nvGrpSpPr>
          <p:grpSpPr>
            <a:xfrm>
              <a:off x="4029120" y="4033440"/>
              <a:ext cx="911160" cy="847080"/>
              <a:chOff x="4029120" y="4033440"/>
              <a:chExt cx="911160" cy="847080"/>
            </a:xfrm>
          </p:grpSpPr>
          <p:pic>
            <p:nvPicPr>
              <p:cNvPr id="527" name="Grafika 43" descr="Chodzenie"/>
              <p:cNvPicPr/>
              <p:nvPr/>
            </p:nvPicPr>
            <p:blipFill>
              <a:blip r:embed="rId7"/>
              <a:stretch/>
            </p:blipFill>
            <p:spPr>
              <a:xfrm>
                <a:off x="4029120" y="4033440"/>
                <a:ext cx="681120" cy="68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8" name="Grafika 44" descr="Bieg"/>
              <p:cNvPicPr/>
              <p:nvPr/>
            </p:nvPicPr>
            <p:blipFill>
              <a:blip r:embed="rId8"/>
              <a:stretch/>
            </p:blipFill>
            <p:spPr>
              <a:xfrm>
                <a:off x="4333680" y="4275000"/>
                <a:ext cx="606600" cy="605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29" name="Prostokąt 47"/>
          <p:cNvSpPr/>
          <p:nvPr/>
        </p:nvSpPr>
        <p:spPr>
          <a:xfrm>
            <a:off x="5364000" y="2919240"/>
            <a:ext cx="37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Wstawian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/..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Kształt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Iko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SmartAr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Wykr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30" name="Grupa 25"/>
          <p:cNvGrpSpPr/>
          <p:nvPr/>
        </p:nvGrpSpPr>
        <p:grpSpPr>
          <a:xfrm>
            <a:off x="3886200" y="5076720"/>
            <a:ext cx="1258920" cy="925560"/>
            <a:chOff x="3886200" y="5076720"/>
            <a:chExt cx="1258920" cy="925560"/>
          </a:xfrm>
        </p:grpSpPr>
        <p:sp>
          <p:nvSpPr>
            <p:cNvPr id="531" name="Prostokąt: zaokrąglone rogi 50"/>
            <p:cNvSpPr/>
            <p:nvPr/>
          </p:nvSpPr>
          <p:spPr>
            <a:xfrm>
              <a:off x="3886200" y="5076720"/>
              <a:ext cx="1258920" cy="92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532" name="Grupa 24"/>
            <p:cNvGrpSpPr/>
            <p:nvPr/>
          </p:nvGrpSpPr>
          <p:grpSpPr>
            <a:xfrm>
              <a:off x="3983400" y="5197680"/>
              <a:ext cx="1061280" cy="741600"/>
              <a:chOff x="3983400" y="5197680"/>
              <a:chExt cx="1061280" cy="741600"/>
            </a:xfrm>
          </p:grpSpPr>
          <p:pic>
            <p:nvPicPr>
              <p:cNvPr id="533" name="Grafika 48" descr="Puzzle"/>
              <p:cNvPicPr/>
              <p:nvPr/>
            </p:nvPicPr>
            <p:blipFill>
              <a:blip r:embed="rId9"/>
              <a:stretch/>
            </p:blipFill>
            <p:spPr>
              <a:xfrm>
                <a:off x="3983400" y="5197680"/>
                <a:ext cx="620280" cy="61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4" name="Grafika 49" descr="Budzik"/>
              <p:cNvPicPr/>
              <p:nvPr/>
            </p:nvPicPr>
            <p:blipFill>
              <a:blip r:embed="rId10"/>
              <a:stretch/>
            </p:blipFill>
            <p:spPr>
              <a:xfrm>
                <a:off x="4424400" y="5319720"/>
                <a:ext cx="620280" cy="619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35" name="Prostokąt 51"/>
          <p:cNvSpPr/>
          <p:nvPr/>
        </p:nvSpPr>
        <p:spPr>
          <a:xfrm>
            <a:off x="5364000" y="4067280"/>
            <a:ext cx="39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Animacj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Okienko animacj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Chronometraż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Prostokąt 52"/>
          <p:cNvSpPr/>
          <p:nvPr/>
        </p:nvSpPr>
        <p:spPr>
          <a:xfrm>
            <a:off x="5364000" y="5202360"/>
            <a:ext cx="352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Shif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 +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Enter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Ctrl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 + strzałka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Linie siatk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Położen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Wyrówna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Rozmieść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3. DODAWANIE DŹWIĘKÓW I FILMÓW</a:t>
            </a:r>
            <a:br>
              <a:rPr sz="24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Uatrakcyjnij prezentację dodając multimedia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8" name="Owal 9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9" name="Grafika 10" descr="Głośność"/>
          <p:cNvPicPr/>
          <p:nvPr/>
        </p:nvPicPr>
        <p:blipFill>
          <a:blip r:embed="rId1"/>
          <a:stretch/>
        </p:blipFill>
        <p:spPr>
          <a:xfrm>
            <a:off x="8194680" y="3762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540" name="pole tekstowe 8"/>
          <p:cNvSpPr/>
          <p:nvPr/>
        </p:nvSpPr>
        <p:spPr>
          <a:xfrm>
            <a:off x="6159600" y="219564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daj dźwięk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ole tekstowe 11"/>
          <p:cNvSpPr/>
          <p:nvPr/>
        </p:nvSpPr>
        <p:spPr>
          <a:xfrm>
            <a:off x="3200400" y="5040360"/>
            <a:ext cx="29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daj film, np. nagraną zawartość ekranu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42" name="Grupa 19"/>
          <p:cNvGrpSpPr/>
          <p:nvPr/>
        </p:nvGrpSpPr>
        <p:grpSpPr>
          <a:xfrm>
            <a:off x="2006640" y="2055960"/>
            <a:ext cx="3600360" cy="2225520"/>
            <a:chOff x="2006640" y="2055960"/>
            <a:chExt cx="3600360" cy="2225520"/>
          </a:xfrm>
        </p:grpSpPr>
        <p:sp>
          <p:nvSpPr>
            <p:cNvPr id="543" name="pole tekstowe 6"/>
            <p:cNvSpPr/>
            <p:nvPr/>
          </p:nvSpPr>
          <p:spPr>
            <a:xfrm>
              <a:off x="2006640" y="2055960"/>
              <a:ext cx="3600360" cy="222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8cb6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544" name="Obraz 6" descr=""/>
            <p:cNvPicPr/>
            <p:nvPr/>
          </p:nvPicPr>
          <p:blipFill>
            <a:blip r:embed="rId2"/>
            <a:stretch/>
          </p:blipFill>
          <p:spPr>
            <a:xfrm>
              <a:off x="2047320" y="2286360"/>
              <a:ext cx="1152000" cy="40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Obraz 7" descr=""/>
            <p:cNvPicPr/>
            <p:nvPr/>
          </p:nvPicPr>
          <p:blipFill>
            <a:blip r:embed="rId3"/>
            <a:stretch/>
          </p:blipFill>
          <p:spPr>
            <a:xfrm>
              <a:off x="2154960" y="2760480"/>
              <a:ext cx="2743560" cy="13352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546" name="Łącznik prosty ze strzałką 13"/>
          <p:cNvCxnSpPr/>
          <p:nvPr/>
        </p:nvCxnSpPr>
        <p:spPr>
          <a:xfrm flipV="1">
            <a:off x="3404880" y="2439720"/>
            <a:ext cx="2680200" cy="411840"/>
          </a:xfrm>
          <a:prstGeom prst="straightConnector1">
            <a:avLst/>
          </a:prstGeom>
          <a:ln cap="rnd" w="19080">
            <a:solidFill>
              <a:srgbClr val="8cb64a"/>
            </a:solidFill>
            <a:miter/>
            <a:headEnd len="med" type="oval" w="med"/>
            <a:tailEnd len="med" type="oval" w="med"/>
          </a:ln>
        </p:spPr>
      </p:cxnSp>
      <p:cxnSp>
        <p:nvCxnSpPr>
          <p:cNvPr id="547" name="Łącznik prosty ze strzałką 15"/>
          <p:cNvCxnSpPr/>
          <p:nvPr/>
        </p:nvCxnSpPr>
        <p:spPr>
          <a:xfrm>
            <a:off x="4713120" y="3309480"/>
            <a:ext cx="2151720" cy="435960"/>
          </a:xfrm>
          <a:prstGeom prst="straightConnector1">
            <a:avLst/>
          </a:prstGeom>
          <a:ln cap="rnd" w="19080">
            <a:solidFill>
              <a:srgbClr val="8cb64a"/>
            </a:solidFill>
            <a:miter/>
            <a:headEnd len="med" type="oval" w="med"/>
            <a:tailEnd len="med" type="oval" w="med"/>
          </a:ln>
        </p:spPr>
      </p:cxnSp>
      <p:cxnSp>
        <p:nvCxnSpPr>
          <p:cNvPr id="548" name="Łącznik prosty ze strzałką 17"/>
          <p:cNvCxnSpPr>
            <a:stCxn id="545" idx="1"/>
          </p:cNvCxnSpPr>
          <p:nvPr/>
        </p:nvCxnSpPr>
        <p:spPr>
          <a:xfrm flipH="1">
            <a:off x="1437840" y="3427200"/>
            <a:ext cx="717840" cy="1006920"/>
          </a:xfrm>
          <a:prstGeom prst="straightConnector1">
            <a:avLst/>
          </a:prstGeom>
          <a:ln cap="rnd" w="19080">
            <a:solidFill>
              <a:srgbClr val="8cb64a"/>
            </a:solidFill>
            <a:miter/>
            <a:headEnd len="med" type="oval" w="med"/>
            <a:tailEnd len="med" type="oval" w="med"/>
          </a:ln>
        </p:spPr>
      </p:cxnSp>
      <p:pic>
        <p:nvPicPr>
          <p:cNvPr id="549" name="Obraz 29" descr=""/>
          <p:cNvPicPr/>
          <p:nvPr/>
        </p:nvPicPr>
        <p:blipFill>
          <a:blip r:embed="rId4"/>
          <a:stretch/>
        </p:blipFill>
        <p:spPr>
          <a:xfrm>
            <a:off x="324000" y="4508640"/>
            <a:ext cx="2558880" cy="2035080"/>
          </a:xfrm>
          <a:prstGeom prst="rect">
            <a:avLst/>
          </a:prstGeom>
          <a:ln w="9360">
            <a:solidFill>
              <a:srgbClr val="8cb64a"/>
            </a:solidFill>
            <a:miter/>
          </a:ln>
        </p:spPr>
      </p:pic>
      <p:pic>
        <p:nvPicPr>
          <p:cNvPr id="550" name="Obraz 31" descr=""/>
          <p:cNvPicPr/>
          <p:nvPr/>
        </p:nvPicPr>
        <p:blipFill>
          <a:blip r:embed="rId5"/>
          <a:stretch/>
        </p:blipFill>
        <p:spPr>
          <a:xfrm>
            <a:off x="6512040" y="3860640"/>
            <a:ext cx="2368440" cy="2019600"/>
          </a:xfrm>
          <a:prstGeom prst="rect">
            <a:avLst/>
          </a:prstGeom>
          <a:ln w="9360">
            <a:solidFill>
              <a:srgbClr val="8cb64a"/>
            </a:solidFill>
            <a:miter/>
          </a:ln>
        </p:spPr>
      </p:pic>
      <p:pic>
        <p:nvPicPr>
          <p:cNvPr id="551" name="Obraz 33" descr=""/>
          <p:cNvPicPr/>
          <p:nvPr/>
        </p:nvPicPr>
        <p:blipFill>
          <a:blip r:embed="rId6"/>
          <a:stretch/>
        </p:blipFill>
        <p:spPr>
          <a:xfrm>
            <a:off x="7696080" y="21160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4. ZAPISYWANIE PREZENTACJI</a:t>
            </a:r>
            <a:br>
              <a:rPr sz="24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Formaty i ich zastosowanie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3" name="Prostokąt: zaokrąglone rogi 7"/>
          <p:cNvSpPr/>
          <p:nvPr/>
        </p:nvSpPr>
        <p:spPr>
          <a:xfrm>
            <a:off x="851040" y="2476440"/>
            <a:ext cx="3348000" cy="17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8440">
            <a:solidFill>
              <a:srgbClr val="8cb6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0" bIns="46800" anchor="ctr">
            <a:no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żliwość późniejszej edycji prezentacji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ezentowanie przez prelegent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rostokąt: zaokrąglone rogi 6"/>
          <p:cNvSpPr/>
          <p:nvPr/>
        </p:nvSpPr>
        <p:spPr>
          <a:xfrm>
            <a:off x="468360" y="1623960"/>
            <a:ext cx="2808360" cy="119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ezentacja programu Microsoft PowerPoin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(rozszerzenie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pptx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rostokąt: zaokrąglone rogi 12"/>
          <p:cNvSpPr/>
          <p:nvPr/>
        </p:nvSpPr>
        <p:spPr>
          <a:xfrm>
            <a:off x="5172120" y="2492280"/>
            <a:ext cx="3348000" cy="17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8440">
            <a:solidFill>
              <a:srgbClr val="8cb6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0" bIns="46800" anchor="ctr">
            <a:no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ezentacja samouruchamiająca się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możliwości edycji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rostokąt: zaokrąglone rogi 13"/>
          <p:cNvSpPr/>
          <p:nvPr/>
        </p:nvSpPr>
        <p:spPr>
          <a:xfrm>
            <a:off x="4834080" y="1623960"/>
            <a:ext cx="2896920" cy="1190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kaz programu Microsoft PowerPoint (rozszerzenie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pps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ppsx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rostokąt: zaokrąglone rogi 14"/>
          <p:cNvSpPr/>
          <p:nvPr/>
        </p:nvSpPr>
        <p:spPr>
          <a:xfrm>
            <a:off x="806400" y="4941720"/>
            <a:ext cx="3348000" cy="172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8440">
            <a:solidFill>
              <a:srgbClr val="8cb6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0" bIns="46800" anchor="ctr">
            <a:no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ksport jednego lub wszystkich slajdów do plików graficznych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rostokąt: zaokrąglone rogi 15"/>
          <p:cNvSpPr/>
          <p:nvPr/>
        </p:nvSpPr>
        <p:spPr>
          <a:xfrm>
            <a:off x="468360" y="4346640"/>
            <a:ext cx="2519280" cy="9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ormat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GIF, JPG, BMP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rostokąt: zaokrąglone rogi 16"/>
          <p:cNvSpPr/>
          <p:nvPr/>
        </p:nvSpPr>
        <p:spPr>
          <a:xfrm>
            <a:off x="5172120" y="4941720"/>
            <a:ext cx="3348000" cy="172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8440">
            <a:solidFill>
              <a:srgbClr val="8cb6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0" bIns="46800" anchor="ctr">
            <a:no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możliwia obejrzenie slajdów (bez animacji) przy braku zainstalowanego programu MS Power Poin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0" name="Prostokąt: zaokrąglone rogi 17"/>
          <p:cNvSpPr/>
          <p:nvPr/>
        </p:nvSpPr>
        <p:spPr>
          <a:xfrm>
            <a:off x="4834080" y="4346640"/>
            <a:ext cx="2519280" cy="9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orma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PDF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Owal 18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2" name="Grafika 19" descr="Dyskietka"/>
          <p:cNvPicPr/>
          <p:nvPr/>
        </p:nvPicPr>
        <p:blipFill>
          <a:blip r:embed="rId1"/>
          <a:stretch/>
        </p:blipFill>
        <p:spPr>
          <a:xfrm>
            <a:off x="8194680" y="39528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Obraz 4" descr=""/>
          <p:cNvPicPr/>
          <p:nvPr/>
        </p:nvPicPr>
        <p:blipFill>
          <a:blip r:embed="rId1"/>
          <a:stretch/>
        </p:blipFill>
        <p:spPr>
          <a:xfrm>
            <a:off x="2452680" y="2276640"/>
            <a:ext cx="4067280" cy="4057560"/>
          </a:xfrm>
          <a:prstGeom prst="rect">
            <a:avLst/>
          </a:prstGeom>
          <a:ln w="9360">
            <a:solidFill>
              <a:srgbClr val="8cb64a"/>
            </a:solidFill>
            <a:miter/>
          </a:ln>
        </p:spPr>
      </p:pic>
      <p:sp>
        <p:nvSpPr>
          <p:cNvPr id="564" name="Prostokąt: zaokrąglone rogi 2"/>
          <p:cNvSpPr/>
          <p:nvPr/>
        </p:nvSpPr>
        <p:spPr>
          <a:xfrm>
            <a:off x="179280" y="2419200"/>
            <a:ext cx="2076480" cy="108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5. DRUKOWANIE MATERIAŁÓW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INFORMACYJNYCH I NOTATEK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6" name="Owal 6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7" name="Grafika 7" descr="Drukarka"/>
          <p:cNvPicPr/>
          <p:nvPr/>
        </p:nvPicPr>
        <p:blipFill>
          <a:blip r:embed="rId2"/>
          <a:stretch/>
        </p:blipFill>
        <p:spPr>
          <a:xfrm>
            <a:off x="8194680" y="3762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568" name="Prostokąt: zaokrąglone rogi 10"/>
          <p:cNvSpPr/>
          <p:nvPr/>
        </p:nvSpPr>
        <p:spPr>
          <a:xfrm>
            <a:off x="230040" y="5084640"/>
            <a:ext cx="3046680" cy="1616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Objaśnienie: linia bez obramowania 15"/>
          <p:cNvSpPr/>
          <p:nvPr/>
        </p:nvSpPr>
        <p:spPr>
          <a:xfrm flipH="1">
            <a:off x="250920" y="2276640"/>
            <a:ext cx="1860480" cy="136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204" y="13619"/>
                </a:moveTo>
                <a:lnTo>
                  <a:pt x="-2778" y="11171"/>
                </a:lnTo>
              </a:path>
            </a:pathLst>
          </a:custGeom>
          <a:noFill/>
          <a:ln cap="rnd" w="22320">
            <a:solidFill>
              <a:srgbClr val="8cb64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Slajdy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– jeden slajd na jednej stronie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Objaśnienie: linia bez obramowania 16"/>
          <p:cNvSpPr/>
          <p:nvPr/>
        </p:nvSpPr>
        <p:spPr>
          <a:xfrm flipH="1">
            <a:off x="250920" y="5229360"/>
            <a:ext cx="3168720" cy="136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47" y="-12429"/>
                </a:moveTo>
                <a:lnTo>
                  <a:pt x="368" y="7049"/>
                </a:lnTo>
              </a:path>
            </a:pathLst>
          </a:custGeom>
          <a:noFill/>
          <a:ln cap="rnd" w="22320">
            <a:solidFill>
              <a:srgbClr val="8cb64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Materiały informacyjne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pie slajdów. 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Na jednej stronie może być kilka slajdów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rostokąt: zaokrąglone rogi 11"/>
          <p:cNvSpPr/>
          <p:nvPr/>
        </p:nvSpPr>
        <p:spPr>
          <a:xfrm>
            <a:off x="6539040" y="1482840"/>
            <a:ext cx="2185920" cy="11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rostokąt: zaokrąglone rogi 12"/>
          <p:cNvSpPr/>
          <p:nvPr/>
        </p:nvSpPr>
        <p:spPr>
          <a:xfrm>
            <a:off x="6875640" y="4200480"/>
            <a:ext cx="1849320" cy="1965240"/>
          </a:xfrm>
          <a:custGeom>
            <a:avLst/>
            <a:gdLst>
              <a:gd name="textAreaLeft" fmla="*/ 90000 w 1849320"/>
              <a:gd name="textAreaRight" fmla="*/ 1759320 w 1849320"/>
              <a:gd name="textAreaTop" fmla="*/ 90000 h 1965240"/>
              <a:gd name="textAreaBottom" fmla="*/ 1875240 h 1965240"/>
            </a:gdLst>
            <a:ahLst/>
            <a:rect l="textAreaLeft" t="textAreaTop" r="textAreaRight" b="textAreaBottom"/>
            <a:pathLst>
              <a:path w="21600" h="22954">
                <a:moveTo>
                  <a:pt x="3600" y="0"/>
                </a:moveTo>
                <a:arcTo wR="3600" hR="3600" stAng="16200000" swAng="-5400000"/>
                <a:lnTo>
                  <a:pt x="0" y="19354"/>
                </a:lnTo>
                <a:arcTo wR="3600" hR="3600" stAng="10800000" swAng="-5400000"/>
                <a:lnTo>
                  <a:pt x="18000" y="229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Objaśnienie: linia bez obramowania 17"/>
          <p:cNvSpPr/>
          <p:nvPr/>
        </p:nvSpPr>
        <p:spPr>
          <a:xfrm>
            <a:off x="6576840" y="1463760"/>
            <a:ext cx="2251080" cy="11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00" y="33293"/>
                </a:moveTo>
                <a:lnTo>
                  <a:pt x="-1909" y="11660"/>
                </a:lnTo>
              </a:path>
            </a:pathLst>
          </a:custGeom>
          <a:noFill/>
          <a:ln cap="rnd" w="22320">
            <a:solidFill>
              <a:srgbClr val="8cb64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Strony notatek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moc dla prelegent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4" name="Objaśnienie: linia bez obramowania 18"/>
          <p:cNvSpPr/>
          <p:nvPr/>
        </p:nvSpPr>
        <p:spPr>
          <a:xfrm>
            <a:off x="6948360" y="4281480"/>
            <a:ext cx="1944720" cy="166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863" y="-10320"/>
                </a:moveTo>
                <a:lnTo>
                  <a:pt x="-2328" y="-720"/>
                </a:lnTo>
              </a:path>
            </a:pathLst>
          </a:custGeom>
          <a:noFill/>
          <a:ln cap="rnd" w="22320">
            <a:solidFill>
              <a:srgbClr val="8cb64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idok konspektu –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rukowanie konspektu prezentacji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6. USTALENIE PARAMETRÓW POKAZU I POKAZ</a:t>
            </a:r>
            <a:br>
              <a:rPr sz="24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O czym należy pamiętać wygłaszając prezentację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6" name="Owal 9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7" name="Grafika 10" descr="Nauczyciel"/>
          <p:cNvPicPr/>
          <p:nvPr/>
        </p:nvPicPr>
        <p:blipFill>
          <a:blip r:embed="rId1"/>
          <a:stretch/>
        </p:blipFill>
        <p:spPr>
          <a:xfrm>
            <a:off x="8194680" y="37620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578" name="Obraz 4" descr=""/>
          <p:cNvPicPr/>
          <p:nvPr/>
        </p:nvPicPr>
        <p:blipFill>
          <a:blip r:embed="rId2"/>
          <a:stretch/>
        </p:blipFill>
        <p:spPr>
          <a:xfrm>
            <a:off x="1403280" y="2166840"/>
            <a:ext cx="1782720" cy="1338480"/>
          </a:xfrm>
          <a:prstGeom prst="rect">
            <a:avLst/>
          </a:prstGeom>
          <a:ln w="0">
            <a:noFill/>
          </a:ln>
        </p:spPr>
      </p:pic>
      <p:pic>
        <p:nvPicPr>
          <p:cNvPr id="579" name="Grafika 2" descr="Nauczyciel"/>
          <p:cNvPicPr/>
          <p:nvPr/>
        </p:nvPicPr>
        <p:blipFill>
          <a:blip r:embed="rId3"/>
          <a:stretch/>
        </p:blipFill>
        <p:spPr>
          <a:xfrm>
            <a:off x="598320" y="1397160"/>
            <a:ext cx="2876760" cy="2876400"/>
          </a:xfrm>
          <a:prstGeom prst="rect">
            <a:avLst/>
          </a:prstGeom>
          <a:ln w="0">
            <a:noFill/>
          </a:ln>
        </p:spPr>
      </p:pic>
      <p:sp>
        <p:nvSpPr>
          <p:cNvPr id="580" name="Dymek mowy: prostokąt z zaokrąglonymi rogami 8"/>
          <p:cNvSpPr/>
          <p:nvPr/>
        </p:nvSpPr>
        <p:spPr>
          <a:xfrm>
            <a:off x="3762360" y="2060640"/>
            <a:ext cx="5035680" cy="3701880"/>
          </a:xfrm>
          <a:prstGeom prst="wedgeRoundRectCallout">
            <a:avLst>
              <a:gd name="adj1" fmla="val -91833"/>
              <a:gd name="adj2" fmla="val -25731"/>
              <a:gd name="adj3" fmla="val 16667"/>
            </a:avLst>
          </a:prstGeom>
          <a:solidFill>
            <a:srgbClr val="ffffff"/>
          </a:solidFill>
          <a:ln cap="rnd" w="22320">
            <a:solidFill>
              <a:srgbClr val="8cb6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stal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arametry pokazu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sposób przełączania slajdów, narracja) w karcie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kaz slajdów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brze się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gotu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przed pokazem przejrzyj jeszcze notatki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ażne jest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ierwsze wrażenie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– dopracuj wstęp prezentacji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trzymuj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kontak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 odbiorcami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zytaj tekstu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tylko go komentuj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rób krótkie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dsumowan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ole tekstowe 3"/>
          <p:cNvSpPr/>
          <p:nvPr/>
        </p:nvSpPr>
        <p:spPr>
          <a:xfrm>
            <a:off x="2087640" y="2205000"/>
            <a:ext cx="49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5400" spc="-1" strike="noStrike">
                <a:solidFill>
                  <a:srgbClr val="366658"/>
                </a:solidFill>
                <a:latin typeface="Calibri"/>
                <a:ea typeface="Calibri"/>
              </a:rPr>
              <a:t>Dziękuję za uwagę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8T13:27:44Z</dcterms:created>
  <dc:creator>MK</dc:creator>
  <dc:description/>
  <dc:language>en-US</dc:language>
  <cp:lastModifiedBy>msk</cp:lastModifiedBy>
  <dcterms:modified xsi:type="dcterms:W3CDTF">2019-11-02T13:20:40Z</dcterms:modified>
  <cp:revision>152</cp:revision>
  <dc:subject/>
  <dc:title>Jak stworzyć dobrą prezentację?</dc:title>
</cp:coreProperties>
</file>